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AA091-BAAB-4B6D-8F87-BF3E13EB0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DDD0-AEB9-4936-9CC2-43B574E8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5EB5A-B85F-46C8-8D13-8E04B9AA0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589CB-04C5-4931-938C-5B2B7CF9A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79D61-AE70-4116-A77D-7FD2F77F3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AEA5C-31EC-4D78-98E0-9F45F58CB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BF09C-B484-46CF-8307-025FE965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0BE4B-7469-4454-9B9E-112A7F5E2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8BB35-2F06-4CA0-8451-433CCF5D1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9B28-605D-466C-819D-52ED2B156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5EA0-A2BA-4389-966C-D6255734A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2A64-1E3F-45C3-8A42-E615CB69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8A81A-8C56-4820-B3E1-35E9D57B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C81D5-DE3F-489C-BE51-805CEE7B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7E7CF-37CA-44FF-AF59-61FE24B4C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AC46F-54C2-4CB8-AEA5-610ED2B15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C090D-FEFE-4AA3-8FB4-8277CDD91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5042-BF72-4247-8F21-405CBF87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F7C61-5D59-4EDF-A3B5-657509F2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9A155-8242-42E8-9358-AE2DB6860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5FC3-ADC1-4502-8D3D-9CA8A366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0B09-6B36-4827-A8D5-4C678E19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A93B-152C-4C21-A06C-944C950E5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74F9-6D56-42BC-91B2-E03BF55DE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6680" cy="6858000"/>
            <a:chOff x="-720" y="-4680"/>
            <a:chExt cx="106668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57575"/>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5757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EBE5-CC1D-4DCE-AE7E-18ED74477F3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314F-DAED-4011-93CC-0E6FC83C7DA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iee.org/enrollment/enr/teach/Spain2008/hdbk.pdf" TargetMode="External"/><Relationship Id="rId2" Type="http://schemas.openxmlformats.org/officeDocument/2006/relationships/hyperlink" Target="http://www.ciee.org/enrollment/pdf/ESL.pdf"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66"/>
                </a:solidFill>
                <a:latin typeface="Times New Roman"/>
              </a:rPr>
              <a:t>PAUTAS PARA ELABORAR UN CURRÍCULUM INTEGRADO</a:t>
            </a:r>
            <a:endParaRPr b="0" lang="en-US" sz="40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importante que el coordinador lea la documentación que los asistentes tienen sobre sus funcio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ff"/>
                </a:solidFill>
                <a:uFillTx/>
                <a:latin typeface="Arial"/>
                <a:hlinkClick r:id="rId1"/>
              </a:rPr>
              <a:t>http://www.ciee.org/enrollment/enr/teach/Spain2008/hdbk.pdf</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ff"/>
                </a:solidFill>
                <a:uFillTx/>
                <a:latin typeface="Arial"/>
                <a:hlinkClick r:id="rId2"/>
              </a:rPr>
              <a:t>http://www.ciee.org/enrollment/pdf/ESL.pd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chos de los asistentes no cuentan con formación previa en enseñanza. Es necesario darles algunas pautas con respecto al comportamiento con el alumnado e introducirlos en las aulas de manera paulat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sp>
        <p:nvSpPr>
          <p:cNvPr id="154"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a:t>
            </a:r>
            <a:r>
              <a:rPr b="0" lang="es-ES_tradnl" sz="2800" spc="-1" strike="noStrike">
                <a:solidFill>
                  <a:srgbClr val="000000"/>
                </a:solidFill>
                <a:latin typeface="Arial"/>
                <a:ea typeface="ＭＳ Ｐゴシック"/>
              </a:rPr>
              <a:t>étodo de trabajo del grupo bilingüe debe ser:</a:t>
            </a:r>
            <a:endParaRPr b="0" lang="en-US" sz="2800" spc="-1" strike="noStrike">
              <a:solidFill>
                <a:srgbClr val="000000"/>
              </a:solidFill>
              <a:latin typeface="Arial"/>
            </a:endParaRPr>
          </a:p>
        </p:txBody>
      </p:sp>
      <p:pic>
        <p:nvPicPr>
          <p:cNvPr id="155" name="" descr=""/>
          <p:cNvPicPr/>
          <p:nvPr/>
        </p:nvPicPr>
        <p:blipFill>
          <a:blip r:embed="rId1"/>
          <a:stretch/>
        </p:blipFill>
        <p:spPr>
          <a:xfrm>
            <a:off x="2762280" y="2895480"/>
            <a:ext cx="459432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nteresante entregar copia de las unidades al profesorado de lengua extranjera y lengua castellana para que extraiga palabras clave y estructuras gramaticales que puedan trabajarse en otras clas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mportante reforzar todas las actividades POR ESCRIT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uena manera de encauzar el trabajo conjunto de las diferentes asignaturas de la secci</a:t>
            </a:r>
            <a:r>
              <a:rPr b="0" lang="es-ES_tradnl" sz="2400" spc="-1" strike="noStrike">
                <a:solidFill>
                  <a:srgbClr val="000000"/>
                </a:solidFill>
                <a:latin typeface="Arial"/>
                <a:ea typeface="ＭＳ Ｐゴシック"/>
              </a:rPr>
              <a:t>ón es realizar PROYECTOS finales conjunt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poyo a las tareas para favorecer la compre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graphicFrame>
        <p:nvGraphicFramePr>
          <p:cNvPr id="159" name=""/>
          <p:cNvGraphicFramePr/>
          <p:nvPr/>
        </p:nvGraphicFramePr>
        <p:xfrm>
          <a:off x="1173240" y="1523880"/>
          <a:ext cx="7772400" cy="4800240"/>
        </p:xfrm>
        <a:graphic>
          <a:graphicData uri="http://schemas.openxmlformats.org/drawingml/2006/table">
            <a:tbl>
              <a:tblPr/>
              <a:tblGrid>
                <a:gridCol w="7772400"/>
              </a:tblGrid>
              <a:tr h="84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
                      </a:r>
                      <a:r>
                        <a:rPr b="0" lang="es-ES_tradnl" sz="2800" spc="-1" strike="noStrike">
                          <a:solidFill>
                            <a:srgbClr val="000000"/>
                          </a:solidFill>
                          <a:latin typeface="Arial"/>
                          <a:ea typeface="ＭＳ Ｐゴシック"/>
                        </a:rPr>
                        <a:t>ómo evaluar las ANL?</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Recomendaciones para la evaluación de las ANL de Nando Mäsc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881a"/>
                    </a:solidFill>
                  </a:tcPr>
                </a:tc>
              </a:tr>
              <a:tr h="79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ontenidos del </a:t>
                      </a:r>
                      <a:r>
                        <a:rPr b="0" lang="es-ES_tradnl" sz="2000" spc="-1" strike="noStrike">
                          <a:solidFill>
                            <a:srgbClr val="000000"/>
                          </a:solidFill>
                          <a:latin typeface="Arial"/>
                          <a:ea typeface="ＭＳ Ｐゴシック"/>
                        </a:rPr>
                        <a:t>área no lingüística primarán sobre los resultados lingüístico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79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petencia ling</a:t>
                      </a:r>
                      <a:r>
                        <a:rPr b="0" lang="es-ES_tradnl" sz="2000" spc="-1" strike="noStrike">
                          <a:solidFill>
                            <a:srgbClr val="000000"/>
                          </a:solidFill>
                          <a:latin typeface="Arial"/>
                          <a:ea typeface="ＭＳ Ｐゴシック"/>
                        </a:rPr>
                        <a:t>üística en el idioma es un valor añadido que ha de ser recompensad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lta de fluidez en la lengua extranjera no debe penalizars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xiste una metodolog</a:t>
                      </a:r>
                      <a:r>
                        <a:rPr b="0" lang="es-ES_tradnl" sz="2000" spc="-1" strike="noStrike">
                          <a:solidFill>
                            <a:srgbClr val="000000"/>
                          </a:solidFill>
                          <a:latin typeface="Arial"/>
                          <a:ea typeface="ＭＳ Ｐゴシック"/>
                        </a:rPr>
                        <a:t>ía nueva, sino la combinación de prácticas didácticas empleadas tanto en idiomas, como en las AN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110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Siempre que sea posible, hay que emplear la lengua extranjera, y siempre que sea necesario hay que recurrir a la lengua matern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ac6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I. IMPLICACI</a:t>
            </a:r>
            <a:r>
              <a:rPr b="0" lang="es-ES_tradnl" sz="3200" spc="-1" strike="noStrike">
                <a:solidFill>
                  <a:srgbClr val="003366"/>
                </a:solidFill>
                <a:latin typeface="Times New Roman"/>
                <a:ea typeface="ＭＳ Ｐゴシック"/>
              </a:rPr>
              <a:t>ÓN DEL RESTO DE LA COMUNIDAD EDUCATIVA</a:t>
            </a:r>
            <a:endParaRPr b="0" lang="en-US" sz="3200" spc="-1" strike="noStrike">
              <a:solidFill>
                <a:srgbClr val="003366"/>
              </a:solidFill>
              <a:latin typeface="Times New Roman"/>
            </a:endParaRPr>
          </a:p>
        </p:txBody>
      </p:sp>
      <p:sp>
        <p:nvSpPr>
          <p:cNvPr id="1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la coordinaci</a:t>
            </a:r>
            <a:r>
              <a:rPr b="0" lang="es-ES_tradnl" sz="2000" spc="-1" strike="noStrike">
                <a:solidFill>
                  <a:srgbClr val="000000"/>
                </a:solidFill>
                <a:latin typeface="Arial"/>
                <a:ea typeface="ＭＳ Ｐゴシック"/>
              </a:rPr>
              <a:t>ón con el colegio de referencia. Una evaluación inicial del alumnado, ayuda a fijar el nivel de partida y el material que se va a elaborar.</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fundamental que el AMPA y los diferentes organismos p</a:t>
            </a:r>
            <a:r>
              <a:rPr b="0" lang="es-ES_tradnl" sz="2000" spc="-1" strike="noStrike">
                <a:solidFill>
                  <a:srgbClr val="000000"/>
                </a:solidFill>
                <a:latin typeface="Arial"/>
                <a:ea typeface="ＭＳ Ｐゴシック"/>
              </a:rPr>
              <a:t>úblicos de la zona conozcan el proyecto.</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s recomendable que el coordinador de la sección bilingüe, forme parte del ETCP.</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e deben dar a conocer las distintas propuestas y proyectos al Claustro de profesores y al alumnado.</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s interesante encauzar toda la información a través de algún medio de divulgación: página web del centro, rev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 REUNIONES DEL EQUIPO BILINGÜE</a:t>
            </a:r>
            <a:endParaRPr b="0" lang="en-US" sz="3200" spc="-1" strike="noStrike">
              <a:solidFill>
                <a:srgbClr val="003366"/>
              </a:solidFill>
              <a:latin typeface="Times New Roman"/>
            </a:endParaRPr>
          </a:p>
        </p:txBody>
      </p:sp>
      <p:sp>
        <p:nvSpPr>
          <p:cNvPr id="131"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uniones </a:t>
            </a:r>
            <a:r>
              <a:rPr b="0" lang="es-ES_tradnl" sz="1800" spc="-1" strike="noStrike" u="sng">
                <a:solidFill>
                  <a:srgbClr val="000000"/>
                </a:solidFill>
                <a:uFillTx/>
                <a:latin typeface="Arial"/>
              </a:rPr>
              <a:t>se deben de hacer</a:t>
            </a:r>
            <a:r>
              <a:rPr b="0" lang="es-ES_tradnl" sz="1800" spc="-1" strike="noStrike">
                <a:solidFill>
                  <a:srgbClr val="000000"/>
                </a:solidFill>
                <a:latin typeface="Arial"/>
              </a:rPr>
              <a:t> y han de resultar </a:t>
            </a:r>
            <a:r>
              <a:rPr b="0" lang="es-ES_tradnl" sz="1800" spc="-1" strike="noStrike" u="sng">
                <a:solidFill>
                  <a:srgbClr val="000000"/>
                </a:solidFill>
                <a:uFillTx/>
                <a:latin typeface="Arial"/>
              </a:rPr>
              <a:t>útiles.</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importante tener un</a:t>
            </a:r>
            <a:r>
              <a:rPr b="0" lang="es-ES_tradnl" sz="1800" spc="-1" strike="noStrike" u="sng">
                <a:solidFill>
                  <a:srgbClr val="000000"/>
                </a:solidFill>
                <a:uFillTx/>
                <a:latin typeface="Arial"/>
              </a:rPr>
              <a:t> modelo de trabajo semanal expuesto.</a:t>
            </a:r>
            <a:r>
              <a:rPr b="0" lang="es-ES_tradnl" sz="1800" spc="-1" strike="noStrike">
                <a:solidFill>
                  <a:srgbClr val="000000"/>
                </a:solidFill>
                <a:latin typeface="Arial"/>
              </a:rPr>
              <a:t> Se deben cumplir objetivos tangibles.</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 de intentar incluir en la reunión al profesorado de </a:t>
            </a:r>
            <a:r>
              <a:rPr b="0" lang="es-ES_tradnl" sz="1800" spc="-1" strike="noStrike" u="sng">
                <a:solidFill>
                  <a:srgbClr val="000000"/>
                </a:solidFill>
                <a:uFillTx/>
                <a:latin typeface="Arial"/>
              </a:rPr>
              <a:t>lengua castellana y L2</a:t>
            </a:r>
            <a:r>
              <a:rPr b="0" lang="es-ES_tradnl" sz="1800" spc="-1" strike="noStrike">
                <a:solidFill>
                  <a:srgbClr val="000000"/>
                </a:solidFill>
                <a:latin typeface="Arial"/>
              </a:rPr>
              <a:t>.</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 el mundo debe cumplir su parte del trabajo, que debe de estar claramente delimitado.</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1"/>
          <a:stretch/>
        </p:blipFill>
        <p:spPr>
          <a:xfrm>
            <a:off x="3962520" y="3733920"/>
            <a:ext cx="43894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 REUNIONES DEL EQUIPO BILINGÜE</a:t>
            </a:r>
            <a:endParaRPr b="0" lang="en-US" sz="32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uxiliares lingüísticos deben asistir también a las reuniones y han de cumplir sus funciones semanales.</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jor forma de canalizar las reuniones es a través de un </a:t>
            </a:r>
            <a:r>
              <a:rPr b="0" lang="es-ES_tradnl" sz="2000" spc="-1" strike="noStrike" u="sng">
                <a:solidFill>
                  <a:srgbClr val="000000"/>
                </a:solidFill>
                <a:uFillTx/>
                <a:latin typeface="Arial"/>
              </a:rPr>
              <a:t>grupo de trabajo</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muy importante solicitar al CEP toda la ayuda necesaria para la correcta realización de las reuniones (material disponible, visitas de los responsables, coordinación con otros centros, información sobre planes, cursos, viajes… ).</a:t>
            </a:r>
            <a:endParaRPr b="0" lang="en-US" sz="20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 esencial actualizar y canalizar la información del coordinador al resto del grupo </a:t>
            </a:r>
            <a:r>
              <a:rPr b="1" lang="es-ES_tradnl" sz="2800" spc="-1" strike="noStrike">
                <a:solidFill>
                  <a:srgbClr val="000000"/>
                </a:solidFill>
                <a:latin typeface="Arial"/>
              </a:rPr>
              <a:t>DO IT NOW!</a:t>
            </a:r>
            <a:endParaRPr b="0" lang="en-US" sz="28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veniente descansar de las reuniones en las semanas con evaluaciones y exámenes, para dar margen al profesorado AN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36"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una serie de pautas a la hora de elaborar el currículu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2084400" y="2438280"/>
            <a:ext cx="59482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primero es </a:t>
            </a:r>
            <a:r>
              <a:rPr b="1" lang="es-ES_tradnl" sz="2800" spc="-1" strike="noStrike">
                <a:solidFill>
                  <a:srgbClr val="000000"/>
                </a:solidFill>
                <a:latin typeface="Arial"/>
              </a:rPr>
              <a:t>DECIDIR LAS UNIDADES QUE SON MÁS ADECUADAS</a:t>
            </a:r>
            <a:r>
              <a:rPr b="0" lang="es-ES_tradnl" sz="2800" spc="-1" strike="noStrike">
                <a:solidFill>
                  <a:srgbClr val="000000"/>
                </a:solidFill>
                <a:latin typeface="Arial"/>
              </a:rPr>
              <a:t> para la enseñanza bilingüe. ¿Qué pautas de elección voy a seguir?. Es importante elegir temas fáciles, que sean plausibl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scar en las programaciones temas que puedan ser comunes o de interés. Es importante no olvidar que hay que </a:t>
            </a:r>
            <a:r>
              <a:rPr b="1" lang="es-ES_tradnl" sz="2800" spc="-1" strike="noStrike">
                <a:solidFill>
                  <a:srgbClr val="000000"/>
                </a:solidFill>
                <a:latin typeface="Arial"/>
              </a:rPr>
              <a:t>RESPETAR LOS CONTENIDOS MÍNIMOS DE ÁREA</a:t>
            </a:r>
            <a:r>
              <a:rPr b="0" lang="es-ES_tradnl" sz="2800" spc="-1" strike="noStrike">
                <a:solidFill>
                  <a:srgbClr val="000000"/>
                </a:solidFill>
                <a:latin typeface="Arial"/>
              </a:rPr>
              <a:t>, ser metódicos y evitar perdernos. La secuenciación temporal y la clara estructuración serán importantes.</a:t>
            </a:r>
            <a:endParaRPr b="0" lang="en-US" sz="2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iene que impartirse toda la U.D. en lengua extrajera, se pueden seleccionar determinadas actividades, o algún aspecto determinado de la mis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mportante que el profesorado de ANL, observe el material/desarrollo de una U.D. en lengua extranje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poyo gramatical y terminológico en las U.D. bilingües, vendrá de los Dptos. de Lengua Castellana y Lengua Extranj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43"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necesario programar la U.D. teniendo muy en cuenta las actividades que se van a pedir al alumnado en L2 (no es necesario que todo sea en lengua extranjera, se pueden mezclar ambas).</a:t>
            </a:r>
            <a:endParaRPr b="0" lang="en-US" sz="2400" spc="-1" strike="noStrike">
              <a:solidFill>
                <a:srgbClr val="000000"/>
              </a:solidFill>
              <a:latin typeface="Arial"/>
            </a:endParaRPr>
          </a:p>
        </p:txBody>
      </p:sp>
      <p:pic>
        <p:nvPicPr>
          <p:cNvPr id="144" name="" descr=""/>
          <p:cNvPicPr/>
          <p:nvPr/>
        </p:nvPicPr>
        <p:blipFill>
          <a:blip r:embed="rId1"/>
          <a:stretch/>
        </p:blipFill>
        <p:spPr>
          <a:xfrm>
            <a:off x="3754440" y="3503520"/>
            <a:ext cx="261000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II. LOS MATERIALES</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entros Bilíngües disponen de recursos económicos específicos que están para </a:t>
            </a:r>
            <a:r>
              <a:rPr b="1" lang="es-ES_tradnl" sz="2400" spc="-1" strike="noStrike">
                <a:solidFill>
                  <a:srgbClr val="000000"/>
                </a:solidFill>
                <a:latin typeface="Arial"/>
              </a:rPr>
              <a:t>SER USADO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ula bilingüe puede presentar ventajas y desventajas, en este sentido la colaboración con el coordinador TIC es fundamental.</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material bilingüe adaptado realizado por diferentes editoriales: Santillana (Richmond) y Anaya (comenzar por el de primaria como guí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mapas, pósters, apoyo vis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sistentes están a disposición del profesorado de la sección para realizar las labores de:</a:t>
            </a:r>
            <a:endParaRPr b="0" lang="en-US" sz="24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la sección en la realización del currículum integrado.</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ANL en el dominio de la lenguna extranjera.</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 material para la sección, búsqueda de documentación…</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para el resto del personal del centro.</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lengua inglesa fuera de la sección.</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ción en la vida del cen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0:13:16Z</dcterms:created>
  <dc:creator>Usuario de Office 2004 Test Drive</dc:creator>
  <dc:description/>
  <dc:language>en-US</dc:language>
  <cp:lastModifiedBy>Usuario de Office 2004 Test Drive</cp:lastModifiedBy>
  <dcterms:modified xsi:type="dcterms:W3CDTF">2008-10-13T15:27:16Z</dcterms:modified>
  <cp:revision>1</cp:revision>
  <dc:subject/>
  <dc:title>PAUTAS PARA ELABORAR UN CURRÍCULUM INTEGRADO</dc:title>
</cp:coreProperties>
</file>